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9.jpeg" ContentType="image/jpeg"/>
  <Override PartName="/ppt/media/image11.jpeg" ContentType="image/jpeg"/>
  <Override PartName="/ppt/media/image17.png" ContentType="image/png"/>
  <Override PartName="/ppt/media/image16.jpeg" ContentType="image/jpeg"/>
  <Override PartName="/ppt/media/image15.wmf" ContentType="image/x-wmf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1D5C-D149-4073-8DAC-58660737F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D7CA-AE9B-421E-9936-DF420280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6591-EA0E-461C-9B09-65431CCEB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D2A6-E97B-420E-AE00-ABAE79971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8D5E-F5A0-468F-90DB-5279AA8B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A57D-A0F4-4428-BC66-8D12A48A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8430-0F68-4D14-8908-EE91C7C7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0947-33AD-4660-85A8-B11667F9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0443-CAFE-463B-9C3E-8D2AF190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68D7-C913-4A5D-A6C1-F267A851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7EC3-4CCC-4EE3-A904-969AF67B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B05B-E082-4FBC-BF30-F113B51F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DC1E-5BCB-4C69-934F-E54314753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ff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Watergat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hrough </a:t>
            </a: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artoons &amp; Pictur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5105520"/>
            <a:ext cx="5562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9ff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ffe8"/>
                </a:solidFill>
                <a:latin typeface="Arial"/>
              </a:rPr>
              <a:t>Read the information on Stage 4 in your packet and answer </a:t>
            </a:r>
            <a:r>
              <a:rPr b="0" i="1" lang="en-US" sz="3200" spc="-1" strike="noStrike">
                <a:solidFill>
                  <a:srgbClr val="b9ffe8"/>
                </a:solidFill>
                <a:latin typeface="Arial"/>
              </a:rPr>
              <a:t>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b9ffe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ffe8"/>
                </a:solidFill>
                <a:latin typeface="Arial"/>
              </a:rPr>
              <a:t>What did the tapes reveal about the Presi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26564" t="5207" r="23438" b="3125"/>
          <a:stretch/>
        </p:blipFill>
        <p:spPr>
          <a:xfrm>
            <a:off x="2286000" y="0"/>
            <a:ext cx="48769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b9ff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ffe8"/>
                </a:solidFill>
                <a:latin typeface="Arial"/>
              </a:rPr>
              <a:t>Read the information on Stage 5 in your packet and answer </a:t>
            </a:r>
            <a:r>
              <a:rPr b="0" i="1" lang="en-US" sz="3200" spc="-1" strike="noStrike">
                <a:solidFill>
                  <a:srgbClr val="b9ffe8"/>
                </a:solidFill>
                <a:latin typeface="Arial"/>
              </a:rPr>
              <a:t>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b9ffe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ffe8"/>
                </a:solidFill>
                <a:latin typeface="Arial"/>
              </a:rPr>
              <a:t>Why did President Nixon resign?  Do you think he should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26564" t="6251" r="23438" b="3125"/>
          <a:stretch/>
        </p:blipFill>
        <p:spPr>
          <a:xfrm>
            <a:off x="2286000" y="0"/>
            <a:ext cx="48769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3333" t="0" r="0" b="0"/>
          <a:stretch/>
        </p:blipFill>
        <p:spPr>
          <a:xfrm>
            <a:off x="0" y="1523880"/>
            <a:ext cx="9144000" cy="4015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4688" t="8431" r="0" b="20505"/>
          <a:stretch/>
        </p:blipFill>
        <p:spPr>
          <a:xfrm>
            <a:off x="0" y="1819440"/>
            <a:ext cx="8229600" cy="5038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atergate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rglary of DNC headquar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erial Presidency: thought he was supreme 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im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ecutive privilege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ly can be used in matters of national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P Spiro Agnew resigned, Nixon announced “I am not a crook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d edited t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bpoe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full tapes, went to the Supreme Cou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xon resigned BEFORE full Hou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mpeach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 RESULT……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lost faith in the presidency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ynic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mistrus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9ffe8"/>
                </a:solidFill>
                <a:latin typeface="Arial"/>
              </a:rPr>
              <a:t>Ford </a:t>
            </a:r>
            <a:r>
              <a:rPr b="0" lang="en-US" sz="6000" spc="-1" strike="noStrike" u="sng">
                <a:solidFill>
                  <a:srgbClr val="b9ffe8"/>
                </a:solidFill>
                <a:uFillTx/>
                <a:latin typeface="Arial"/>
              </a:rPr>
              <a:t>pardoned</a:t>
            </a:r>
            <a:r>
              <a:rPr b="0" lang="en-US" sz="6000" spc="-1" strike="noStrike">
                <a:solidFill>
                  <a:srgbClr val="b9ffe8"/>
                </a:solidFill>
                <a:latin typeface="Arial"/>
              </a:rPr>
              <a:t> Nixon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3127" t="9376" r="0" b="6251"/>
          <a:stretch/>
        </p:blipFill>
        <p:spPr>
          <a:xfrm>
            <a:off x="0" y="655560"/>
            <a:ext cx="9144000" cy="59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X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estic Goal : “Restore Ord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egally wiretapped left-wing individuals/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groups infiltrated (SDS, Black Panthers), spread conflict within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A investigated dissidents (people opposed to government polic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IRS audit antiwar prote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an enemies list “anyone who opposes us, we’ll destro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6250" t="6251" r="0" b="625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eign Policy Accomplish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Détente (easing Cold War tens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ted China and Mosc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T I: Strategic Arms Limitation Trea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ed number of intercontinental ballistic missiles and submarine launched miss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72 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33104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 the information on Stage 1 in your pac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your partner, discuss these questions and write down your answ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as the cri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was the crime commit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committed the cri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ere they trying to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4688" t="6251" r="0" b="5207"/>
          <a:stretch/>
        </p:blipFill>
        <p:spPr>
          <a:xfrm>
            <a:off x="0" y="0"/>
            <a:ext cx="92962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the information on Stage 2 in your packet and answer the following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discovered the connection between the break-in and the White Ho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other things did the investigation reve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23438" t="6251" r="21093" b="3125"/>
          <a:stretch/>
        </p:blipFill>
        <p:spPr>
          <a:xfrm>
            <a:off x="1905120" y="0"/>
            <a:ext cx="54100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9ff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ffe8"/>
                </a:solidFill>
                <a:latin typeface="Arial"/>
              </a:rPr>
              <a:t>Read the information on Stage 3 in your packet and answer the following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ffe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ffe8"/>
                </a:solidFill>
                <a:latin typeface="Arial"/>
              </a:rPr>
              <a:t>What happened to the burgla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ffe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ffe8"/>
                </a:solidFill>
                <a:latin typeface="Arial"/>
              </a:rPr>
              <a:t>How did the crime get connected to Richard Nix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27343" t="5207" r="25003" b="3125"/>
          <a:stretch/>
        </p:blipFill>
        <p:spPr>
          <a:xfrm>
            <a:off x="2286000" y="0"/>
            <a:ext cx="46483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20:07:44Z</dcterms:created>
  <dc:creator>School District U46</dc:creator>
  <dc:description/>
  <dc:language>en-US</dc:language>
  <cp:lastModifiedBy>School District U46</cp:lastModifiedBy>
  <dcterms:modified xsi:type="dcterms:W3CDTF">2011-05-16T12:11:45Z</dcterms:modified>
  <cp:revision>19</cp:revision>
  <dc:subject/>
  <dc:title>Slide 1</dc:title>
</cp:coreProperties>
</file>